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832-DEDB-4D9E-86A5-E454FEE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BF9-49EC-4E55-95E4-3C274DA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917-4E4C-417E-AC52-4E72F3D2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14B-F333-465D-A5A1-4B049F6D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443-10C2-40B5-9EEF-74933DC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1D-7F65-4119-8C90-C411EE1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ECE-6832-432F-8F2A-3F68FB90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421-98B6-471E-9B1C-C44C216A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5FB-08A6-45E7-8F14-6D94D70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5B5-C6AE-4AB7-BBC3-0DBF752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6E2-CEDC-4C54-A0E2-B7A4CA1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62D-9D66-4420-8A4E-6197D24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9D6-A5CC-4D51-860D-04E631DC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 GENDER EFECT SHOOTING FREE THROWS IN JUNIOR HIG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MA LAM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6f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 DAVIS, SARAH STALLINGS,KENNA SCHWEIZER, CHELSEY RIFFEL,TARRA EDSON, CALEB HENDRICKS, CALEB MURPHY,NICK SCHISSLER, STEVEN HISHAW, AND CHRYS B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762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pperplate Gothic Bold"/>
              </a:rPr>
              <a:t>THANK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girls who 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boys who 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 o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, Tarra, Sarah, Chelsey, and Ke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 H., Chrys, Nick, Steven, and Caleb 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828800"/>
          <a:ext cx="83059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305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76520" y="4952880"/>
          <a:ext cx="5868720" cy="80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952880"/>
                    <a:ext cx="5868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OTHO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 boys will shoot more accurate. Because boys are proven to be better shooters. They have better form than girls and take pressur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et all m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ather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them shoot ten free th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will record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828800"/>
          <a:ext cx="9524880" cy="25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95248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905120"/>
          <a:ext cx="10211040" cy="259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102110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76520"/>
          <a:ext cx="8229600" cy="21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39:18Z</dcterms:created>
  <dc:creator>USD376</dc:creator>
  <dc:description/>
  <dc:language>en-US</dc:language>
  <cp:lastModifiedBy>STERLING  USD376</cp:lastModifiedBy>
  <dcterms:modified xsi:type="dcterms:W3CDTF">2011-03-08T15:05:56Z</dcterms:modified>
  <cp:revision>8</cp:revision>
  <dc:subject/>
  <dc:title>DOES GENDER AFFECT WHAT GENDER CAN SHOOT FREE THROWS THE MOST ACCURATE?</dc:title>
</cp:coreProperties>
</file>